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EE7-6719-4EDD-B6CE-B659F7DC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8EC-313B-4231-AABD-9D2DB90F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ED0-4077-468D-9A21-17E838D2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C5E-4417-4DCF-BCC6-94E795E2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789DA-E220-485E-B321-D0252ABC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4EAF-DB83-498E-B542-7365E3C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B658B-6AEC-4157-9DF1-EA46C77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3176-76EA-40D0-B89E-70DC57F8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81769-8CF1-4686-BE86-19481FE1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B1A33-B50B-4375-A054-DC90997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5EF4-B2E5-44F3-B164-40AB024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558-3B4A-4ED0-B3C1-C6AC7553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DA8B0-D554-4FF3-BE6C-7331938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8EF2D-72C2-4375-8820-494E0BE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C75C5-134B-4AF3-BFF1-F0D7739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0FBE-4422-489A-9776-37A9FED1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7BF3D-C166-4102-AF0D-1C9C314D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8C32-B948-4FA7-BCFB-E8F2B29C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DC20-91FC-4E64-848A-BF24FBBC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6BB1-9843-4103-BED0-63FBFB39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B9FF-863A-4E73-A5DE-07944F7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2D29-C5CA-40E6-8305-E3DDE09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1C6-7E98-4FE6-977A-2F146412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8BA9-DD87-4C9E-B87C-28E42DB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2C15-D736-4D86-BC57-B8B4F9C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76A3-D485-4E85-B522-32552CC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3A9D-CEAC-4729-84FD-CF30CA2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50A0-C1FC-4381-9735-F78BF31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6E10-98F2-430B-A615-D363BAA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D82E-4C5A-4F2F-8D61-1537AA67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80F-D43E-46B3-8244-781FEF4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94C-1310-4C00-8A5F-C054007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900-1C02-4B66-AA5A-40F4F29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3B4-1EED-481B-9AEA-A485540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259-BDA0-4D64-B26C-973B31B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E04-8DFA-4485-805C-026403B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0004-B405-4A98-849A-828D1B9D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B99-5F36-4350-AE95-7EA39786C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5C4B-5B5F-418B-BC53-1F6B27123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155736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0800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entury Gothic"/>
              </a:rPr>
              <a:t>Уход за комнатными растениями в уголке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3716280"/>
            <a:ext cx="1735200" cy="2016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1280" y="692280"/>
            <a:ext cx="1228680" cy="180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71800" y="321840"/>
            <a:ext cx="669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оми государственный педагогический инстит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Факультет педагогики и методики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афедра педагогики и методики 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3933720"/>
            <a:ext cx="266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ночкина Наталья, студентка 636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609300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ыктывкар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87280" y="333360"/>
            <a:ext cx="71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Борьба с вре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324000" y="1341360"/>
            <a:ext cx="226188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3276720" y="1413000"/>
            <a:ext cx="547200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елкое насекомое зеленого, черного или бурого цвета. Пораженное растение обливают мыльной водой с керосином. Обрабатывают несколько раз через каждые 7-10 дней. Затем обмывают чистой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231588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3348000" y="4149720"/>
            <a:ext cx="504036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Щи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елкое насекомое, покрытое воскообразным щитком. Вредителей снимают щеткой, обмывают растение мыльной водой несколько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138400" cy="25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276720" y="260280"/>
            <a:ext cx="496872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Чер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пасный вредитель. Тело самки покрыто восковыми выделениями в виде нитей. Растение, пораженное червецом, кажется покрытым белым пухом. Удаляют вредителей кистью или кусочком ваты. Затем промыть мыльной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2185920" cy="266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348000" y="3357720"/>
            <a:ext cx="504036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аутинный к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астолько мал, что еле заметен глазу. Поселяется на нижней стороне листа, которую закрывает тонкой белой паутинкой. Пораженные места опрыскивают керасино-мыльной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235116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3564000" y="404640"/>
            <a:ext cx="525600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Три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Мелкое крылатое темно-бурое насекомое. Поселяется на нижней стороне листа. Пораженное растение обмывают мыльной водой, затем чистой, и так повторяют несколько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236232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635280" y="3645000"/>
            <a:ext cx="550872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Цикламеновый к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рошечные клещи. Когда их много, выглядят как слой пыли на нижней стороне листа. Поражают цикламен, бальзамин, пеларгонию, сенполию. Пораженные листья растения уда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24000" y="836640"/>
            <a:ext cx="48592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1197000"/>
            <a:ext cx="820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Успехов в работе по уходу за комнатными растения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360" y="3716280"/>
            <a:ext cx="2467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0920" y="260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ол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16360" cy="279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580000" y="1341360"/>
            <a:ext cx="3167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ода для полива должна быть комнатной температуры, отстоявшейся в открытой посу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пасмурный и холодный день полив незначительный, в жаркую, сухую погоду – об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уковичные растения поливают в под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ри поливке носик лейки должен касаться края горш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3746520" cy="24386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2000" y="260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Опрыск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809000">
            <a:off x="0" y="0"/>
            <a:ext cx="1913040" cy="1913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84720" y="1268280"/>
            <a:ext cx="43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прыскивание поддерживает водный режим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Тропические и другие растения с плотными кожистыми листьями весной и летом ежедневно опрыскивают водой комнатной темп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Для опрыскивания используют пульверизатор или небольшую лейку с мелким ситеч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астения в волосками на листьях опрыскивать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НЕЛЬЗЯ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, с них следует снимать пыль мягкой кисточк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24000" y="2637000"/>
            <a:ext cx="3816360" cy="2271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Мы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6000"/>
          </a:blip>
          <a:srcRect l="0" t="0" r="11658" b="-2037"/>
          <a:stretch/>
        </p:blipFill>
        <p:spPr>
          <a:xfrm>
            <a:off x="611280" y="1268280"/>
            <a:ext cx="3817800" cy="2301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003640" y="134136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1197000"/>
            <a:ext cx="3311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дин раз в неделю растения нужно м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мывают растения под душем или из лейки с ситечком, поставив горшок в таз, обязательно закрыть клеенкой землю, чтобы землю не разм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580000" y="4581360"/>
            <a:ext cx="2435400" cy="164016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95280" y="4149720"/>
            <a:ext cx="4681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Растения с опушенными листьями мыть </a:t>
            </a:r>
            <a:r>
              <a:rPr b="1" lang="en-US" sz="1900" spc="-1" strike="noStrike">
                <a:solidFill>
                  <a:srgbClr val="ff0066"/>
                </a:solidFill>
                <a:latin typeface="Arial"/>
              </a:rPr>
              <a:t>НЕЛЬЗЯ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, их очищают от пыли мягкой кисточко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Цветочные горшки моют 3-4 раза в год с мылом при помощи жесткой щет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47640" y="3333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Рых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>
            <a:lum bright="-12000"/>
          </a:blip>
          <a:srcRect l="6072" t="0" r="4858" b="0"/>
          <a:stretch/>
        </p:blipFill>
        <p:spPr>
          <a:xfrm>
            <a:off x="5724360" y="1197000"/>
            <a:ext cx="2819520" cy="3024000"/>
          </a:xfrm>
          <a:prstGeom prst="rect">
            <a:avLst/>
          </a:prstGeom>
          <a:ln w="38160">
            <a:solidFill>
              <a:srgbClr val="ff66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5280" y="1265400"/>
            <a:ext cx="54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ыхление – это сухой по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изводят его на следующий день после по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ыхлить землю нужно деревянной палочкой не глуб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-1,5 см, около стенок горшка, чтобы не повредить к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268360" y="4437000"/>
            <a:ext cx="2710080" cy="1862280"/>
          </a:xfrm>
          <a:prstGeom prst="rect">
            <a:avLst/>
          </a:prstGeom>
          <a:ln w="3816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71440" y="25956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ерес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50840"/>
            <a:ext cx="612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учшее время для пересадки большинства растений — весна, с марта по 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емляной ком, вынутый из горшка, осторожно разрыхляют заостренным колышком, удаляя часть земли, затем ком освобождают от мелких мочковатых переплетенных корней, срезая их и весь «войлок» мелких корней острым но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дготовленный таким образом к пересадке ком опускают в новый горшок, при этом смотрят, чтобы корневая система была на 1—2 см ниже верхнего края гор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стение должно располагаться в центре гор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372360" y="907920"/>
            <a:ext cx="2420640" cy="5589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76360" y="33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еревал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82840"/>
            <a:ext cx="536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изводится тогда, когда растению становится тесно в гор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 этом земляной ком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е разруш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вежую землю насыпают небольшим слоем на дно горшка и добавляют между стенкой и земляным комом, и свер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2881440" cy="2847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8600" y="33264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Подкор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00360" y="1411560"/>
            <a:ext cx="554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ДОУ используют минеральные удобрения (готовые сме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дкармливать лучше всего в период роста растения (после пересадки или укоре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дкормку используют 2-3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395280" y="2637000"/>
            <a:ext cx="2936880" cy="3024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>
            <a:lum bright="-12000"/>
          </a:blip>
          <a:stretch/>
        </p:blipFill>
        <p:spPr>
          <a:xfrm rot="20578200">
            <a:off x="591840" y="1074600"/>
            <a:ext cx="1895400" cy="2016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47636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Обре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 rot="1522800">
            <a:off x="6803640" y="981000"/>
            <a:ext cx="1865160" cy="21272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403280" y="4003920"/>
            <a:ext cx="73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уть этой операции в удалении ростков и ве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еобходима для сохранения силуэта растения, стимуляции роста, придания ему формы, для его омоложения или просто в санитарных целях, для удаления засохших или поврежденных орг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148428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брезка должна сопровождаться тщательным уходом: более обильным поливом, подкормкой, хорошим освещением и достаточно высокой темпер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6:43:21Z</dcterms:created>
  <dc:creator>Аня</dc:creator>
  <dc:description/>
  <dc:language>en-US</dc:language>
  <cp:lastModifiedBy>UserXP</cp:lastModifiedBy>
  <dcterms:modified xsi:type="dcterms:W3CDTF">2010-05-25T21:01:27Z</dcterms:modified>
  <cp:revision>56</cp:revision>
  <dc:subject/>
  <dc:title>Слайд 1</dc:title>
</cp:coreProperties>
</file>